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12550"/>
        <c:axId val="73637644"/>
      </c:barChart>
      <c:catAx>
        <c:axId val="42012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7644"/>
        <c:crosses val="autoZero"/>
        <c:auto val="1"/>
        <c:lblAlgn val="ctr"/>
        <c:lblOffset val="100"/>
        <c:noMultiLvlLbl val="0"/>
      </c:catAx>
      <c:valAx>
        <c:axId val="7363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2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DCD-BA09-4061-9106-B846D579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6F2-72F4-4203-B876-B5E7EA6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C60-C00A-46EE-9994-7D8E5A42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580-D70D-4191-B01B-915125B4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5E3-C7C6-4060-9014-047926DA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E8B-51CC-493C-888D-DA5D9E4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352-BEC6-40BB-B975-0701CAC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CE9-5065-44BB-A758-E062EC9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C7B-1F84-41FE-9077-274ECC9D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209-599C-4BCD-B35F-E528A81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D51-DEA3-4DDF-96CE-1F6390B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D28-32F5-48B5-B0B2-7F67B46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B83D0-739F-46B0-AADA-F1BE1CCBF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