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87932"/>
        <c:axId val="98293927"/>
      </c:barChart>
      <c:catAx>
        <c:axId val="58187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93927"/>
        <c:crosses val="autoZero"/>
        <c:auto val="1"/>
        <c:lblAlgn val="ctr"/>
        <c:lblOffset val="100"/>
        <c:noMultiLvlLbl val="0"/>
      </c:catAx>
      <c:valAx>
        <c:axId val="98293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87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F5E-10C2-4350-A3B1-A76C0E12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ACC-BD19-4520-BF25-069212B2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F4F-72DE-44ED-A344-1DB17F88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D1C-5935-4D0F-AC6B-1D183142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153-C625-4306-8826-3D4985B9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E6E-5051-4B05-922D-F2AF8A5D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CBD-7F55-409A-BA82-56E1228E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EE5-31BD-4061-9B56-DBCCD9AD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C2F-98AC-48BC-BF19-A713ED2A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912-0111-4BB2-BB69-BE6B1DB1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234-8D29-41C1-9243-9EB8CF79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CB9-4501-438B-AD29-3757A6A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D4FEB-9B70-4F25-AE7B-85DFC83EFD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