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29727"/>
        <c:axId val="80080313"/>
      </c:barChart>
      <c:catAx>
        <c:axId val="16929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80313"/>
        <c:crosses val="autoZero"/>
        <c:auto val="1"/>
        <c:lblAlgn val="ctr"/>
        <c:lblOffset val="100"/>
        <c:noMultiLvlLbl val="0"/>
      </c:catAx>
      <c:valAx>
        <c:axId val="80080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29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050F-3703-4F79-8E63-36A3C728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4D6-ACED-4EC7-A153-86015B40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C55-99A1-4804-ABF9-5D7BC878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0B0-F753-40E7-8CBB-4D0D158C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68A-11FD-4329-A023-47A28392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B36-14C9-41AA-976A-1840A390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E71-29E6-4C84-B625-134118C0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371-3F71-4FBC-8404-96585954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F66-9E11-48D4-BB19-7BFEDFB3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AE2-41CE-47A8-A645-25B5241B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910-4263-4BAC-AEDA-F87AF289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353-77A2-4C4A-BC63-85916356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C6051-F6DE-408C-B6DB-8A9ED74C5E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